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12325"/>
</p:presentation>
</file>

<file path=ppt/commentAuthors.xml><?xml version="1.0" encoding="utf-8"?>
<p:cmAuthorLst xmlns:p="http://schemas.openxmlformats.org/presentationml/2006/main">
  <p:cmAuthor id="0" name="StarUML" initials="S" lastIdx="2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<Relationship Id="rId11" Type="http://schemas.openxmlformats.org/officeDocument/2006/relationships/commentAuthors" Target="commentAuthors.xml"/>
</Relationships>
</file>

<file path=ppt/comments/comment1.xml><?xml version="1.0" encoding="UTF-8" standalone="yes"?>
<p:cmLst xmlns:p="http://schemas.openxmlformats.org/presentationml/2006/main"><p:cm authorId="0" dt="2005-10-29T12:41:54.609000000" idx="1"><p:pos x="4616" y="2736"/><p:text><<DISPLAY-TEXT>>
::;current().Author;</p:text></p:cm><p:cm authorId="0" dt="2005-10-29T12:41:54.609000000" idx="2"><p:pos x="4616" y="2960"/><p:text><<DISPLAY-TEXT>>
::;current().Company;</p:text></p:cm><p:cm authorId="0" dt="2005-10-29T12:41:54.609000000" idx="3"><p:pos x="2402" y="3202"/><p:text><<DISPLAY-TEXT>>
::;current().Copyright;</p:text></p:cm><p:cm authorId="0" dt="2005-10-29T12:41:54.609000000" idx="4"><p:pos x="1376" y="1200"/><p:text><<DISPLAY-TEXT>>
::;current().Title;</p:text></p:cm></p:cmLst>
</file>

<file path=ppt/comments/comment2.xml><?xml version="1.0" encoding="UTF-8" standalone="yes"?>
<p:cmLst xmlns:p="http://schemas.openxmlformats.org/presentationml/2006/main"><p:cm authorId="0" dt="2005-10-29T12:54:39.343000000" idx="5"><p:pos x="1296" y="1368"/><p:text><<DISPLAY-TEXT>>
;current().Documentation</p:text></p:cm></p:cmLst>
</file>

<file path=ppt/comments/comment3.xml><?xml version="1.0" encoding="UTF-8" standalone="yes"?>
<p:cmLst xmlns:p="http://schemas.openxmlformats.org/presentationml/2006/main"><p:cm authorId="0" dt="2005-10-29T14:23:02.953000000" idx="6"><p:pos x="0" y="0"/><p:text><<REPEAT>>
{R}::Use Case Model;UMLPackage;;</p:text></p:cm><p:cm authorId="0" dt="2005-10-29T14:23:02.968000000" idx="7"><p:pos x="1344" y="1424"/><p:text><<DISPLAY-TEXT>>
;current().Documentation;</p:text></p:cm><p:cm authorId="0" dt="2005-10-29T14:23:02.968000000" idx="8"><p:pos x="2440" y="472"/><p:text><<DISPLAY-TEXT>>
;current().Name;</p:text></p:cm></p:cmLst>
</file>

<file path=ppt/comments/comment4.xml><?xml version="1.0" encoding="UTF-8" standalone="yes"?>
<p:cmLst xmlns:p="http://schemas.openxmlformats.org/presentationml/2006/main"><p:cm authorId="0" dt="2005-10-29T14:16:46.640000000" idx="9"><p:pos x="80" y="72"/><p:text><<REPEAT>>
;UMLUseCaseDiagram;;</p:text></p:cm><p:cm authorId="0" dt="2005-10-29T14:16:46.640000000" idx="10"><p:pos x="3712" y="448"/><p:text><<DISPLAY-TEXT>>
;current().Name</p:text></p:cm><p:cm authorId="0" dt="2005-10-29T14:16:46.656000000" idx="11"><p:pos x="1016" y="3256"/><p:text><<DISPLAY-TEXT>>
;current().Documentation;</p:text></p:cm><p:cm authorId="0" dt="2005-10-29T14:16:46.656000000" idx="12"><p:pos x="1672" y="1528"/><p:text><<DISPLAY-IMAGE>>
;;</p:text></p:cm><p:cm authorId="0" dt="2005-10-29T14:16:46.656000000" idx="13"><p:pos x="112" y="4120"/><p:text><<ENDREPEAT>></p:text></p:cm></p:cmLst>
</file>

<file path=ppt/comments/comment5.xml><?xml version="1.0" encoding="UTF-8" standalone="yes"?>
<p:cmLst xmlns:p="http://schemas.openxmlformats.org/presentationml/2006/main"><p:cm authorId="0" dt="2005-10-29T14:17:08.078000000" idx="14"><p:pos x="0" y="0"/><p:text><<REPEAT>>
;UMLUseCase;;</p:text></p:cm><p:cm authorId="0" dt="2005-10-29T14:17:08.078000000" idx="15"><p:pos x="2408" y="432"/><p:text><<DISPLAY-TEXT>>
;current().Name</p:text></p:cm><p:cm authorId="0" dt="2005-10-29T14:17:08.093000000" idx="16"><p:pos x="1248" y="1200"/><p:text><<DISPLAY-TEXT>>
;current().Documentation;</p:text></p:cm><p:cm authorId="0" dt="2005-10-29T14:17:08.093000000" idx="17"><p:pos x="1256" y="1624"/><p:text><<DISPLAY-TEXT>>
;trim(current().GetTaggedValueAsString("UMLStandard", "UseCaseSpecification", "BasicFlow"));</p:text></p:cm><p:cm authorId="0" dt="2005-10-29T14:17:08.093000000" idx="18"><p:pos x="1280" y="2048"/><p:text><<DISPLAY-TEXT>>
;trim(current().GetTaggedValueAsString("UMLStandard", "UseCaseSpecification", "AlternativeFlows"));</p:text></p:cm><p:cm authorId="0" dt="2005-10-29T14:17:08.093000000" idx="19"><p:pos x="1280" y="2456"/><p:text><<DISPLAY-TEXT>>
;trim(current().GetTaggedValueAsString("UMLStandard", "UseCaseSpecification", "Preconditions"));</p:text></p:cm><p:cm authorId="0" dt="2005-10-29T14:17:08.093000000" idx="20"><p:pos x="1264" y="2872"/><p:text><<DISPLAY-TEXT>>
;trim(current().GetTaggedValueAsString("UMLStandard", "UseCaseSpecification", "Postconditions"));</p:text></p:cm><p:cm authorId="0" dt="2005-10-29T14:17:08.093000000" idx="21"><p:pos x="4344" y="4160"/><p:text><<ENDREPEAT>></p:text></p:cm><p:cm authorId="0" dt="2005-10-29T14:17:08.093000000" idx="22"><p:pos x="5200" y="4160"/><p:text><<ENDREPEAT>>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1E93-AED6-4DA5-8586-952F89D03E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023D-C79E-4333-98B5-42034EF2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D1BC-805E-4092-8920-74D3E9A0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3A10-F7D8-4602-9180-D6F3863CC2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38CBF-0D5D-41D1-ABC5-C38914D46C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BB002-523D-43A0-B38B-A51BEF4D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D84FB-CCFE-4AD5-BD20-BFB424B2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6F451-465E-45F9-B8E2-4A527A3A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59285-4E4C-4476-BEBF-1A5EB2C2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3F5B1-3F30-4285-A745-594A6AA3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6697C-530D-4F7A-97FA-2774362D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2A95-1F6F-4EB5-8A87-2A888A6E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3D4D4-CD00-4ACC-9984-64BF8AB5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7FC9A-53AA-4C3C-9A7E-9A0E11CC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6C759-40CC-40C8-9DB5-15DD5E79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1A68D-43A6-4EE5-BC88-A8BB96D1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CFEE2-0786-40F9-A3A1-8B8107CD61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F418-7983-4320-8A0B-4D52DC94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A33D-D49F-45FD-85AB-C4B97ACB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8D97-4EFE-42EE-BDC3-2139A72E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8F4C-64C7-45D8-89BA-178B6C56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4F01-0F93-4121-AAF2-6154923D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DA23-5278-428D-A135-32ADE039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1B35-97E0-4A8F-A789-61BBA6DC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0"/>
            <a:ext cx="8458200" cy="83808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040"/>
            <a:ext cx="2565000" cy="4720320"/>
            <a:chOff x="0" y="842040"/>
            <a:chExt cx="2565000" cy="4720320"/>
          </a:xfrm>
        </p:grpSpPr>
        <p:sp>
          <p:nvSpPr>
            <p:cNvPr id="2" name=""/>
            <p:cNvSpPr/>
            <p:nvPr/>
          </p:nvSpPr>
          <p:spPr>
            <a:xfrm rot="559200">
              <a:off x="939960" y="914400"/>
              <a:ext cx="1264680" cy="455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82880"/>
              <a:ext cx="2285640" cy="447948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1C04-9C35-40FC-8916-C338E03BD9AC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-258840"/>
            <a:ext cx="2209680" cy="3457800"/>
            <a:chOff x="0" y="-258840"/>
            <a:chExt cx="2209680" cy="3457800"/>
          </a:xfrm>
        </p:grpSpPr>
        <p:sp>
          <p:nvSpPr>
            <p:cNvPr id="8" name=""/>
            <p:cNvSpPr/>
            <p:nvPr/>
          </p:nvSpPr>
          <p:spPr>
            <a:xfrm rot="1135800">
              <a:off x="812880" y="-209520"/>
              <a:ext cx="863640" cy="33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1440"/>
              <a:ext cx="2209680" cy="3200400"/>
            </a:xfrm>
            <a:custGeom>
              <a:avLst/>
              <a:gdLst/>
              <a:ahLst/>
              <a:rect l="l" t="t" r="r" b="b"/>
              <a:pathLst>
                <a:path w="1344" h="2064">
                  <a:moveTo>
                    <a:pt x="672" y="2064"/>
                  </a:moveTo>
                  <a:lnTo>
                    <a:pt x="0" y="2064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864" y="480"/>
                  </a:lnTo>
                  <a:lnTo>
                    <a:pt x="624" y="1152"/>
                  </a:lnTo>
                  <a:lnTo>
                    <a:pt x="576" y="1728"/>
                  </a:lnTo>
                  <a:lnTo>
                    <a:pt x="672" y="2064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79280" y="6137280"/>
            <a:ext cx="1403280" cy="531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dt" idx="2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D8C6-7707-4480-9C81-B2D7A52A85AB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48520"/>
            <a:ext cx="2450160" cy="4209120"/>
            <a:chOff x="0" y="2648520"/>
            <a:chExt cx="2450160" cy="4209120"/>
          </a:xfrm>
        </p:grpSpPr>
        <p:sp>
          <p:nvSpPr>
            <p:cNvPr id="52" name=""/>
            <p:cNvSpPr/>
            <p:nvPr/>
          </p:nvSpPr>
          <p:spPr>
            <a:xfrm rot="559200">
              <a:off x="907920" y="2720520"/>
              <a:ext cx="1222200" cy="404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870640"/>
              <a:ext cx="2209320" cy="39870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2874-57F7-4634-AB4B-45A0AB1771E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DE15-B39C-42DE-966F-6CF57CF60CE4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0"/>
            <a:ext cx="6705720" cy="228600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38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022480" y="1773360"/>
            <a:ext cx="3701880" cy="11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1916280"/>
            <a:ext cx="6553080" cy="9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1844640"/>
            <a:ext cx="70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</a:t>
            </a:r>
            <a:br>
              <a:rPr sz="2800"/>
            </a:b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Design Review Document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161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opyright © $$, All righ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A24DE-A5E5-4DD8-B01A-F593213BD2F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44832C-25BF-4D37-B5B4-A64CF2A958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c145"/>
                </a:solidFill>
                <a:latin typeface="Tahoma"/>
              </a:rPr>
              <a:t>Introduction</a:t>
            </a:r>
            <a:endParaRPr b="1" lang="en-US" sz="32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31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Overal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8279-E3C8-44B8-A4A9-4369902145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F44AD00-0DF9-4955-BBB8-34C2F630FC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Packag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-2700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6E9B-F082-4B34-82FC-FFD86C171C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846A71D-73C0-47AD-BFE9-235247DC1D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 Diagram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7129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640" y="508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83B6-2E32-42AB-834D-7D2ABA4A2B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2C0B08D-6368-4F0A-A622-CA9405039C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Basic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Alternative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re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ost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DE0B-C29C-4170-BF01-CAD4324CC8D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A3EEFC1-8E3F-467B-AE11-763E6F8E79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7105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ffc145"/>
                </a:solidFill>
                <a:latin typeface="Tahoma"/>
              </a:rPr>
              <a:t>Thank You</a:t>
            </a:r>
            <a:endParaRPr b="1" lang="en-US" sz="66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41C5A-3B62-4CA4-A815-EEE34457EB4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E65F0E-B4E6-4AA2-A8F0-44190C9C02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5:58:58Z</dcterms:created>
  <dc:creator>StarUML</dc:creator>
  <dc:description/>
  <dc:language>en-US</dc:language>
  <cp:lastModifiedBy>김현수</cp:lastModifiedBy>
  <dcterms:modified xsi:type="dcterms:W3CDTF">2005-11-02T04:49:55Z</dcterms:modified>
  <cp:revision>101</cp:revision>
  <dc:subject/>
  <dc:title>Design Review Document</dc:title>
</cp:coreProperties>
</file>